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56B1-34FC-48F8-8C00-7450D26B6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26E8-5E2C-4E95-A82F-1492FD67D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C099-94C5-4F87-86EA-310894793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4E39-1034-42E7-9FA7-011AB95B7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0F378B-6A9B-4D90-9891-B22FD4C85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4C7581-5964-4902-A513-55A0C1A5E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CCBD2A-122C-453D-870A-B397D21D2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496C80-C8C2-4F7F-81AA-7284E46E7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01F996-FF9B-431D-A431-1CEF355AB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335BE5-5733-46F1-BE39-6363EF453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14F7BD-3FE8-4514-A60F-4407D12A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6DE7-8CE4-4B19-AA7F-5C39C791D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5E2E24-060E-404F-97FA-FB1EC2C1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904C4E-60FF-444D-BC2A-F5707694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2EB610-E526-4D32-B534-CE74B237F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36F9E8-EADC-4DE8-9A08-99F1EEBAA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91878F-04B7-4F38-BBCA-853E34BBE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DE3B-BE37-45CC-B146-5289947D5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C60B-B32A-41D0-B395-DF16159BB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DB52-8064-44AF-BB73-D8D18CFDB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6D8D-2D64-4080-BB27-79592D488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1FED-F79C-41C0-B87A-64938437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212F-E031-4247-813D-4F50EC06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0722-5A14-4E3E-B993-45D7301F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1762E-3BEC-4AED-8DF9-5B361C213250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5E01F-7A0C-45E6-B6AB-F07EA4E317E5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609480" y="1676520"/>
            <a:ext cx="81536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gravimetric analysis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avimetric analysis, by definition, includes all methods of analysis in which the final stage of the analysis involves weighing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e most basic case, this could involve simply heating a sample to dryness and weighing to determine the amount of volatile components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is account, however, I shall limit myself to gravimetric methods which rely on the use of precipitation reacti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752480" y="304920"/>
            <a:ext cx="487692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ntroduction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3059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quantitative determination of a substance by precipitation followed by isolation and weighing of the precipitate is  called  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gravimetric analysis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basic method of gravimetric analysis is fairly straightforward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weighed sample is dissolved after which an excess of a precipitating agent is added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ecipitate which forms is filtered, dried or ignited and weighed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om the mass and known composition of the precipitate, the amount of the original ion can be determin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600"/>
                </a:solidFill>
                <a:latin typeface="Tahoma"/>
              </a:rPr>
              <a:t>For successful determinations the following criteria must be met</a:t>
            </a:r>
            <a:r>
              <a:rPr b="0" lang="en-US" sz="4000" spc="-1" strike="noStrike">
                <a:solidFill>
                  <a:srgbClr val="00c600"/>
                </a:solidFill>
                <a:latin typeface="Tahoma"/>
              </a:rPr>
              <a:t> 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desired substance must be completely precipitated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most determinations the precipitate is of such low solubility that losses from dissolution are negligible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 additional factor is the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"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mon ion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"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ffect, this further reduces the solubility of the precipitate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Ag is precipitated out by addition of C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Tahoma"/>
              </a:rPr>
              <a:t>Ag+ + Cl- =&lt;-&gt; AgCl(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***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the (low) solubility of AgCl is reduced still further by the excess of Cl- which is added, pushing the equilibrium to the right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weighed form of the product should be of known composi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oduct should be "pure" and easily filtered. It is usually difficult to obtain a product which is "pure", i.e. one which is free from impurities but careful precipitation and sufficient washing helps reduce the level of impurit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80880" y="914400"/>
            <a:ext cx="82011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ith my best wishes to succeed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057400" y="3166920"/>
            <a:ext cx="4572000" cy="102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Islam.N.S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286000" y="4876920"/>
            <a:ext cx="4114800" cy="16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***STAR***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LADIATOR_2008</cp:lastModifiedBy>
  <dcterms:modified xsi:type="dcterms:W3CDTF">2008-11-22T15:45:5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